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136-9010-4AB3-B421-95BCBB89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CA4-F63B-49D9-9BC4-90609109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9D2-64C8-47FC-8A62-85AE9EC7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6FD-B5C9-4447-B0AB-337698B5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137-B0A1-41D8-9CBE-176DE856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18C-7B2D-4AF2-AE63-6D59C684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89C-5EF6-47E4-A1D9-AEA463BF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1FC-A4E3-434A-AF54-646F9B99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B5D-7B87-4E7C-89D6-104A5C76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878-EB0E-43E3-99C0-AA6F6A4A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189-3F6F-44DB-B8BF-1F1F9685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01E-2867-4FE1-BC0B-2AFF2E9D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6C15-17B4-4E98-A035-E385FA18E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O NOTES:  Dave Pel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roduct Image"/>
          <p:cNvPicPr/>
          <p:nvPr/>
        </p:nvPicPr>
        <p:blipFill>
          <a:blip r:embed="rId1"/>
          <a:stretch/>
        </p:blipFill>
        <p:spPr>
          <a:xfrm rot="21306600">
            <a:off x="304560" y="1653840"/>
            <a:ext cx="3581280" cy="520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91120" y="289548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Powerpoint  to Collect and Organize Your Not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: minimu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or more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turn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did he return h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turn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What is his life like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About Dave Pelzer.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ve Pelzer - The Officia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p., n.d. Web. 7 Feb. 201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tp://www.davepelzer.com/about.html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zer, David J.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child called "it": an abused child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ey from victim to vi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eerfield Bea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.: Health Communications, 1995. 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o TAG – What kind of a hero is Pelzer according to Bar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hero, what counts is character.  For a celebrity, what counts is fame.” (Barr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lzer - blend of survivor hero and hero with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ivor Hero:  a person who overcomes a major  survival experience such as a plane disaster, accident, or act of terrorism  &gt; &gt; &gt; relates to a person’s will to live (Barron 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o Within:   a person  who overcomes a major battle within himself/herself &gt; &gt; &gt; relates to a personal challenge such as a physical challenge, illness, addiction, depression  (self rescue) (Barron 5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re his challenges in his early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ly, mentally, verbally, and emotionally abused by his alcoholic m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ed with small disciplinary consequences (sitting in the corner) and changed to burns and bruises (Pelzer 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pping my arm, Mother held it in the orange-blue flame. My skin seemed toe explode from the heat.  I could smell the scorched hairs from my burnt arm.” (Pelzer 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re his challenges in his early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se gradually came from his brothers also; took advantage of him and viewed him as a family slave with continual bullying (Pelzer 3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y approached me, my heart became hard as tone, and I am sure that they saw the hate etched in my face.” (Pelzer 13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re his challenges in his adult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4379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ed the Air Force at age 18; flew plans that refueled the SR-71 Blackbird and f-117 Stealth Fighters, both used in highly secretive military operations in Ir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ed to deal with the consequences of his abuse as an adult and had a goal of making himself a better person (“All About Dave Pelzer.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did he overcome his challen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was his life different after the challen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velation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What did he learn about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velation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does he pay it for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6:15:46Z</dcterms:created>
  <dc:creator>jtunison</dc:creator>
  <dc:description/>
  <dc:language>en-US</dc:language>
  <cp:lastModifiedBy>jtunison</cp:lastModifiedBy>
  <dcterms:modified xsi:type="dcterms:W3CDTF">2013-02-12T14:44:52Z</dcterms:modified>
  <cp:revision>5</cp:revision>
  <dc:subject/>
  <dc:title>Challenges  –  What were his challenges?</dc:title>
</cp:coreProperties>
</file>